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1F5-6BAA-41C9-9221-93505832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BE7-085B-492E-A8CC-5DCB647F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8F2-D015-4DC9-82F9-FD3327F6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47D-5B76-479E-83D8-2B39876A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657-E755-475E-ACB1-14528731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F58-8F3F-418A-A0D9-2D30A5DE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A8B-62AC-4913-A02A-F4BC2694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36E-68BD-4275-B4CA-5EA7D031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E6A-BD7B-4A9F-A7F5-89D4F40D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694-BDD4-49E4-8E1B-8CC64030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DCF-58A7-4DBF-92E4-A74902B4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F0B-381B-4E2B-A409-B11269CF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4C7748-0DF8-40C2-9AB3-A82ABEDD75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father of genetics is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Charles Darw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Gregor Mende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James Wats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Albert Einstei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3040" y="26668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 When Mendel crossed a true-breeding tall plant with a true-breeding short plant the offspring wer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100% tal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50% tall, 50% sho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100% medium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. The product of a cross between two different strains that differ in regard to only one trait is known as a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rue-breeding organis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ybri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dihybri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homozygous organism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7080" y="30481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. When Mendel crossed the hybrids (F1 generation)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all the plants were tal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all the plants were medium heigh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3/4 of the plants were tall, 1/4 of the plants were shor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 Mendel's law of segregation states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parents of contrasting appearance produce offspring of intermediate appeara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factors for each trait separate during gamete form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organisms have two factors for each tra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both B and C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3040" y="38862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. A cross between two hybrids results in a _____ phenotypic ratio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9:3:3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1:2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3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1:1:1:1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708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 Each physical trait is controlled by _____ allele(s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w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h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fou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 Mendel's true-breeding short plants in the P generation wer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omozygous recess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omozygous domi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heterozygou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3040" y="26668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 There is only one allele for each trait in the gametes becaus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each organism has only one allele for each tra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he homologous chromosomes separate during meiosis I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mitosis reduces the number of chromosomes when gametes are formed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708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. The recessive phenotype is displayed by organisms which ar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omozygous domi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omozygous recess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heterozygou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040" y="30481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. Which of the following represents a heterozygous genotype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tall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Mendel studied the inheritance of ___________ in the garden pea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seed siz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seed col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flower siz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all of the abov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3040" y="37339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3000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8. Each gamete has only one allele for each trait because gametes are always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aploi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diploid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3000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. A heterozygous (for one trait) organism can produce _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only one type of game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wo types of gamet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304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. Which of the following gametes would Mendel's true-breeding tall plants in the P generation have produced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 or 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. If a person is heterozygous for unattached earlobes, their genotype must b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e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3040" y="30481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. Which of the following represents a type of gamete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t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708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. Mendel relied heavily on his knowledge of ____ to interpret the results of his experiment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anatom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microbiolog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statistic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physic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708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. The probable results of a genetic cross can be determined by using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a Punnett squ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he laws of probabil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both A and B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. If yellow seed color is dominant over green seed color in pea plants, we could use _____ to represent a homozygo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inant yellow seed producing plant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Y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Yy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3040" y="36576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4. Mendel crossed his F1 generation tall plants with true-breeding, short plants. The results were a __________ phenotyp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1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2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3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4:1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. If an individual with the dominant phenotype is crossed with an individual with the recessive phenotype and all the offsp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he dominant phenotype, it would be concluded that the individual with the dominant phenotype is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omozygous domi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eterozygou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3040" y="36576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According to the blending theory of inheritance, a cross between plants with red flowers and plants with white flowers woul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only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plants with red flow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plants with white flow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plants with red and white flow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plants with pink flower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3040" y="41148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3000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8. If the chance of E = 1/2 and the chance of e = 1/2, then the chance of Ee =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1/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1/4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304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. E = unattached earlobes. e = attached earlobes. In the cross of Ee and Ee, the chance of a child with unattached earlob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1/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1/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3/4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3040" y="38862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1. The mother can roll her tongue (dominant phenotype), but her child cannot (recessive phenotype). The mother's phenotyp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. A mother and child can roll their tongues (dominant phenotype), but the father cannot (recessive phenotype). The child'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enotype must b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3. If two flies heterozygous for wing length and body color are crossed, which of the following are possible results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chance of L, long wings = 3/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chance of l, short wings = 1/2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Chance of G, grey body = 1/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all of the above are tru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3040" y="26668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4. A cross in which true-breeding plants differ in two traits is known as a __________ cros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e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dihybri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multi tra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hybrid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6. How many different types of gametes can a fly with the genotype LlGg produce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w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h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fou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3040" y="37339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7. When two dihybrid organisms are crossed and simple dominance is present in both genes a _____ phenotypic ratio wi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1:2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3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9:3:3: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1:1:1:1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3040" y="37339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9. The organism with the genotype LLGg will produce _____ type(s) of gamete(s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w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h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fou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3040" y="28954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2. Which of the following types of gametes is not produced by an organism with the genotype LLGg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L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l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L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3040" y="31240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Mendel's experiments are as applicable today as they were in 1860 due to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is careful experimental desig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is use of statistics to interpret his resul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his careful records of the numbers of offspring that expressed each characteris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all of the abov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7080" y="39625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5. In dihybrid genetics problems, the individual has _____ allele(s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tw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th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fou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3040" y="365760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. Which of the following genotypes represents an organism that is homozygous recessive for two traits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l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Llg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llg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LLG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 If the parents are heterozygous for cystic fibrosis (Ff x Ff), then each offspring has a _____ chance of having cyst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rosi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2%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25%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50%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75%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3040" y="32767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3. Selective breeding can be used to produce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crops with higher yiel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sheep with thicker co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chickens that lay larger egg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all of the abov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3000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Mendel's true-breeding pea plants were created by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self-pollin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cross-pollinatio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3040" y="28195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 When an organism has two different alleles at a gene locus, it is referred to as _____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homozygous recess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omozygous domi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heterozygou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3040" y="35053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30000"/>
            <a:ext cx="77724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 The allele that is expressed in a heterozygous organism is the _____ allele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domin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recessiv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7080" y="28195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0448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 The word __________ refers to the alleles an individual receives at fertilization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genotyp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phenotyp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allotyp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l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3040" y="243828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1724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 Which of the following is a phenotype?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A. T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B. heterozygo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C. sho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D. 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7080" y="3048120"/>
            <a:ext cx="637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34:09Z</dcterms:created>
  <dc:creator>A satisfied Microsoft Office User</dc:creator>
  <dc:description/>
  <dc:language>en-US</dc:language>
  <cp:lastModifiedBy>Donald C. Obenhuber</cp:lastModifiedBy>
  <dcterms:modified xsi:type="dcterms:W3CDTF">2003-11-19T15:45:04Z</dcterms:modified>
  <cp:revision>18</cp:revision>
  <dc:subject/>
  <dc:title>1. The father of genetics is_____.            A. Charles Darwin           B. Gregor Mendel           C. James Watson           D. Albert Einstein  </dc:title>
</cp:coreProperties>
</file>